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90F-44E9-4ABE-9658-B298FF0E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F9F-EC58-4E88-AE2D-71D78767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D8E-9ED0-4B50-90C3-893E8C4F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EA4-E481-4BEC-A494-36BC115A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350-2A0B-442F-81F6-F68BFF7A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AD7-0A18-4A5F-B116-09BCCB9E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CB2-3816-468F-835F-B03A4C46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586-A803-4C23-B66E-80546880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90A-2678-42D8-97E0-DB7D28ED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703-4B8B-4C7D-AE70-72D2FA70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923-B464-49B6-8388-3BFA79BA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616-F758-476C-9DD6-3961690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>
                <a:alpha val="75294"/>
              </a:srgbClr>
            </a:gs>
            <a:gs pos="100000">
              <a:srgbClr val="ffff00">
                <a:alpha val="7529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D79D-5F5A-44D0-AFD8-042058D55FFE}" type="slidenum">
              <a:rPr b="0" lang="ru-RU" sz="14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450720" y="3193920"/>
            <a:ext cx="4370400" cy="306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к занятию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дготовительной к школе группе </a:t>
            </a:r>
            <a:br>
              <a:rPr sz="28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беды наших прадедов»</a:t>
            </a:r>
            <a:endParaRPr b="0" lang="en-US" sz="36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105520" y="5333760"/>
            <a:ext cx="3504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Воспитатель МДОАУ №3 г. Новокубанска Баталова Светлана Андреевна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semiluki-rayon.ru/sites/default/files/_2013-06-22.jpg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traditio-ru.org/images/9/9e/Red_army_soldiers_raising_the_soviet_flag_on_the_roof_of_the_reichstag_berlin_germany.jpg"/>
          <p:cNvPicPr/>
          <p:nvPr/>
        </p:nvPicPr>
        <p:blipFill>
          <a:blip r:embed="rId1"/>
          <a:stretch/>
        </p:blipFill>
        <p:spPr>
          <a:xfrm>
            <a:off x="228600" y="380880"/>
            <a:ext cx="8677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www.gamer.ru/system/attached_images/images/000/614/950/original/919939_369655936487733_234507095_o.jpg"/>
          <p:cNvPicPr/>
          <p:nvPr/>
        </p:nvPicPr>
        <p:blipFill>
          <a:blip r:embed="rId1"/>
          <a:stretch/>
        </p:blipFill>
        <p:spPr>
          <a:xfrm>
            <a:off x="228600" y="380880"/>
            <a:ext cx="87343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eurasian-defence.ru/sites/default/files/DS/Novosti/1368153281_golub.jpg"/>
          <p:cNvPicPr/>
          <p:nvPr/>
        </p:nvPicPr>
        <p:blipFill>
          <a:blip r:embed="rId1"/>
          <a:stretch/>
        </p:blipFill>
        <p:spPr>
          <a:xfrm>
            <a:off x="304920" y="609480"/>
            <a:ext cx="84628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5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81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http://m.kp.ru/share/i/12/6773698/big"/>
          <p:cNvPicPr/>
          <p:nvPr/>
        </p:nvPicPr>
        <p:blipFill>
          <a:blip r:embed="rId1"/>
          <a:stretch/>
        </p:blipFill>
        <p:spPr>
          <a:xfrm>
            <a:off x="228600" y="990720"/>
            <a:ext cx="87282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elisa.moscaliciuc.md/wp-content/uploads/2014/05/timthumb.php_.jpg"/>
          <p:cNvPicPr/>
          <p:nvPr/>
        </p:nvPicPr>
        <p:blipFill>
          <a:blip r:embed="rId1"/>
          <a:stretch/>
        </p:blipFill>
        <p:spPr>
          <a:xfrm>
            <a:off x="266760" y="228600"/>
            <a:ext cx="8572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sad-detstva18.ru/images/uploads/content/images/903df89cb652.jpg"/>
          <p:cNvPicPr/>
          <p:nvPr/>
        </p:nvPicPr>
        <p:blipFill>
          <a:blip r:embed="rId1"/>
          <a:stretch/>
        </p:blipFill>
        <p:spPr>
          <a:xfrm>
            <a:off x="177840" y="152280"/>
            <a:ext cx="8737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kolyan.net/uploads/posts/2010-05/1273773477_42.jpg"/>
          <p:cNvPicPr/>
          <p:nvPr/>
        </p:nvPicPr>
        <p:blipFill>
          <a:blip r:embed="rId1"/>
          <a:stretch/>
        </p:blipFill>
        <p:spPr>
          <a:xfrm>
            <a:off x="190440" y="228600"/>
            <a:ext cx="88012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: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edu.vm.ru/photo/vecherka/2012/06/file65epqciggxx186do07ui_800_480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www.rybinsk-portal.ru/images/afisha/events/event58/58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g-fotki.yandex.ru/get/6303/121447594.f9/0_899f6_d3ca1cf7_XL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abali.ru/wp-content/uploads/2013/03/rodina_mat_zovet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lada.fm/uploads/posts/2013-06/1371919374_maxresdefault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usiter.com/uploads/20120423/proizvodstvo+v+tilu+germanii+v+tilu+vtoraya+mirovaya+vojna+21706773770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playcast.ru/uploads/2013/05/06/5310245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semiluki-rayon.ru/sites/default/files/_2013-06-22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traditio-ru.org/images/9/9e/Red_army_soldiers_raising_the_soviet_flag_on_the_roof_of_the_reichstag_berlin_germany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www.gamer.ru/system/attached_images/images/000/614/950/original/919939_369655936487733_234507095_o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eurasian-defence.ru/sites/default/files/DS/Novosti/1368153281_golub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m.kp.ru/share/i/12/6773698/bi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elisa.moscaliciuc.md/wp-content/uploads/2014/05/timthumb.php_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sad-detstva18.ru/images/uploads/content/images/903df89cb652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kolyan.net/uploads/posts/2010-05/1273773477_42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cs418626.vk.me/v418626342/548d/iXoHIksdyps.jpg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99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Руслан\Desktop\день победы\58.jpg"/>
          <p:cNvPicPr/>
          <p:nvPr/>
        </p:nvPicPr>
        <p:blipFill>
          <a:blip r:embed="rId1"/>
          <a:stretch/>
        </p:blipFill>
        <p:spPr>
          <a:xfrm>
            <a:off x="407880" y="1447920"/>
            <a:ext cx="8347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img-fotki.yandex.ru/get/6303/121447594.f9/0_899f6_d3ca1cf7_XL.jpg"/>
          <p:cNvPicPr/>
          <p:nvPr/>
        </p:nvPicPr>
        <p:blipFill>
          <a:blip r:embed="rId1"/>
          <a:stretch/>
        </p:blipFill>
        <p:spPr>
          <a:xfrm>
            <a:off x="152280" y="533520"/>
            <a:ext cx="8839440" cy="57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est-mp3.ru_a._aleksandrov_-_svyaszennaya_voina.mp3" descr=""/>
          <p:cNvPicPr/>
          <p:nvPr/>
        </p:nvPicPr>
        <p:blipFill>
          <a:blip r:embed="rId1"/>
          <a:stretch/>
        </p:blipFill>
        <p:spPr>
          <a:xfrm>
            <a:off x="76960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ttp://abali.ru/wp-content/uploads/2013/03/rodina_mat_zovet.jpg"/>
          <p:cNvPicPr/>
          <p:nvPr/>
        </p:nvPicPr>
        <p:blipFill>
          <a:blip r:embed="rId2"/>
          <a:stretch/>
        </p:blipFill>
        <p:spPr>
          <a:xfrm>
            <a:off x="16765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lada.fm/uploads/posts/2013-06/1371919374_maxresdefault.jpg"/>
          <p:cNvPicPr/>
          <p:nvPr/>
        </p:nvPicPr>
        <p:blipFill>
          <a:blip r:embed="rId1"/>
          <a:stretch/>
        </p:blipFill>
        <p:spPr>
          <a:xfrm>
            <a:off x="225360" y="304920"/>
            <a:ext cx="869148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usiter.com/uploads/20120423/proizvodstvo+v+tilu+germanii+v+tilu+vtoraya+mirovaya+vojna+21706773770.jpg"/>
          <p:cNvPicPr/>
          <p:nvPr/>
        </p:nvPicPr>
        <p:blipFill>
          <a:blip r:embed="rId1"/>
          <a:stretch/>
        </p:blipFill>
        <p:spPr>
          <a:xfrm>
            <a:off x="228600" y="316080"/>
            <a:ext cx="870444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>
                <a:alpha val="75294"/>
              </a:srgbClr>
            </a:gs>
            <a:gs pos="100000">
              <a:srgbClr val="ffff00">
                <a:alpha val="75294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Литвинов Василий Леонтьевич</a:t>
            </a:r>
            <a:endParaRPr b="0" lang="en-US" sz="3600" spc="-1" strike="noStrike">
              <a:solidFill>
                <a:srgbClr val="00b05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400356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038840" cy="26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Слободинцев Степан Семенович</a:t>
            </a:r>
            <a:endParaRPr b="0" lang="en-US" sz="3600" spc="-1" strike="noStrike">
              <a:solidFill>
                <a:srgbClr val="00b050"/>
              </a:solidFill>
              <a:latin typeface="Arial"/>
            </a:endParaRPr>
          </a:p>
        </p:txBody>
      </p:sp>
      <p:pic>
        <p:nvPicPr>
          <p:cNvPr id="54" name="Picture 7" descr="C:\Users\Work\Desktop\2015-03-31 07.46.55.jpg"/>
          <p:cNvPicPr/>
          <p:nvPr/>
        </p:nvPicPr>
        <p:blipFill>
          <a:blip r:embed="rId1"/>
          <a:stretch/>
        </p:blipFill>
        <p:spPr>
          <a:xfrm>
            <a:off x="1805040" y="1773360"/>
            <a:ext cx="5357880" cy="401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IMG_3045.jpg"/>
          <p:cNvPicPr/>
          <p:nvPr/>
        </p:nvPicPr>
        <p:blipFill>
          <a:blip r:embed="rId1"/>
          <a:stretch/>
        </p:blipFill>
        <p:spPr>
          <a:xfrm>
            <a:off x="4572000" y="304920"/>
            <a:ext cx="4157640" cy="30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Служу Отечеству"/>
          <p:cNvPicPr/>
          <p:nvPr/>
        </p:nvPicPr>
        <p:blipFill>
          <a:blip r:embed="rId2"/>
          <a:stretch/>
        </p:blipFill>
        <p:spPr>
          <a:xfrm>
            <a:off x="304920" y="3505320"/>
            <a:ext cx="45748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услан</dc:creator>
  <dc:description/>
  <dc:language>en-US</dc:language>
  <cp:lastModifiedBy>Аксёновы</cp:lastModifiedBy>
  <dcterms:modified xsi:type="dcterms:W3CDTF">2015-03-31T16:11:34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